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5523-1BA5-4296-81B1-F1E25738C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C928-4CD4-4AFA-A996-2892DE79E9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1F4B-45BF-4C89-814C-EA022918271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9D40-44BD-476F-8C02-B6A77BB28C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7F63E-DB7A-408A-BAF2-4CC28778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81E5-5CA6-41A8-BBC7-CE0FDB63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8F38D-89C5-4FAF-AE60-80B86782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A042C-933F-4567-B300-E9B2BEAF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EAD80-4C68-4AA0-B220-29CDBAFC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0BE5B-69C1-44EF-B215-7BB1624F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2204E-6ED4-41A9-9EF3-BC25C0FD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921F6-3C89-4940-A087-4F6B8A3F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1C5B5-DA71-4C6C-B495-A9041656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A8732-0373-4BFD-8F32-B1AB75BE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ABA9D-4747-449E-8676-ABC78FFD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9C649-EB6F-4BF9-AD43-276DFDED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436E-6D49-4C50-B3DE-C816CF9D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60F13-F039-4F89-B506-355EDDED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ECFEE-2143-4FF5-9E9D-F3894866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B992E-7796-4455-A145-3A13CD8D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D600E-DABF-4777-B8CD-9BDDFC14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27991-582A-4420-A891-80A47D98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72DC4-86A7-4DA7-9076-E1D07B4A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77D92-6FA9-47BF-A225-DF5AFDA0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82C2C-5ED2-422D-A3B0-AA8D755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992D7-F582-455E-8F7B-0867FD29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2C8DE-4A5C-482F-A7E1-633E4400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562B5-5D0B-4B87-A6FF-3CA0CC3F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1B3BC-1F76-40A9-842D-B9C30DEC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DA637-E610-4FB6-8110-14B4A518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A18E9-9756-4CB1-83CE-0B6B2964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91B64-C613-4574-ABDD-F6027A1C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22438-BDC6-4792-9D8E-25619200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616AD-222D-4FAF-AD00-4C08A8BF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7B4F9-995A-4EC2-9E73-66CC30FD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F02C1-B1BC-4190-8692-9304A1D6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232A6-8519-48F7-9991-B5EA4E5C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E2F70-0DB1-4844-B9E7-C3AB08CF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9133-04C1-40FF-851A-9C979F3A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A6B41-752C-4D51-87C7-0AA55B65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05929-27F8-471E-90C5-51B0F2B2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38B62-7C33-49FF-B081-15842159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6162D-1D21-4D8E-89EB-D5F2693F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545EF-D30A-409F-BB66-A5C7536D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17933-CF0C-46FA-8F0B-90CC1586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D6836-2DD6-45EB-ACA6-220D8CE0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F1EBC-4973-4D48-84E4-449859B0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54C6D-C5DA-492F-AEC3-92A6A7B3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933A3-CAAA-40D2-8208-13602905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BB48-267B-4DE0-99E7-EC167F45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B8EBF-FC42-43DC-8AAA-2F1F8B0B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3AED5-2A9F-449A-B12C-8BF7B0DE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70660-56C3-4781-9DC0-F6CCBBF2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DBEB9-2064-4A45-8077-E0082198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174F4-FF98-4F82-AB8F-924A3098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C5690-C55F-4FD6-8B33-8940A925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00F19-6DF5-4F20-BD69-FE724B61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6099F-5BCE-4C24-8570-E8216E38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EEDE8-C5B2-40AC-A533-6A662763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1DA54-0D79-49CE-8E29-62AD01D0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4427-E1CF-4506-AE99-78A5B561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5635F-B01C-43B8-BC65-F4522DE6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808EC-E721-4462-9244-2C80A12D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ACA87-91C4-4F6E-ACB3-2EBF9E5D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69BE9-BF6E-45AA-B967-4CB57692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F44D0-6D48-48E7-8C80-D3458483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E80B9-C759-4F74-96A6-D72753E9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19176-93FD-4B9D-A932-2EF6A0B6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5BDFB5-8786-46AA-81B5-1F418228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69B26-4613-4E1F-943D-9DCB0427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2310F-966A-47F8-AAE1-B1755A59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8D36-3966-4E39-9466-41001CD8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BDE26-9368-4F52-9F95-DFC910F7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B5EB9-3F5A-43F0-85D6-89E4E6E0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03322-263C-449A-A837-EB643CFE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FF71D1-E86E-484B-B437-81C32481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37594-93C7-45BE-8A21-033EFEBC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82811-323A-44CB-8DFF-9987D2C5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5D292-5D27-41E0-8DAE-740B9F9C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D53EA-17BC-46B7-84DF-84CDB36D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A609A7-BB46-470B-A9E9-C82D2C09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F6B781-9E73-4E2B-83B9-AFBAFE44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93C9-B054-4ADA-B76F-AEA20AC2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60DDC-8C7F-4B52-B775-9CEA7B44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07239-7CB6-4D4A-93BD-B454C341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94B9BF-2041-43D1-88F9-77AD43F1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5B652-7991-4192-B715-E1B2DB39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A6B619-8619-48A0-9E47-39764EB9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8E40D-4B15-46E2-9A53-C3188D52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9EAE70-B937-4BF0-8C00-12F14F53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B6DFC-DD7B-4887-B8FD-A31E5934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E2FFC6-098B-4D4C-99C9-4C134664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B87D9C-39F6-47B9-8E0F-7A7B7B30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D8F5-E12C-4663-8554-227E35F6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4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4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EA0F8-8B27-459F-BF7E-72FF864F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F3BA4-3A16-4318-A266-832BC4B9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135DE0-A2D3-4462-915D-AA251B32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E4528-0ABE-49A4-B85B-6F402CA6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801D8E-9449-4938-A66B-9844A88D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A2F7A-FF3D-4D29-A457-4ECF7CA6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0863B-AB16-489E-A1A1-097A986E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5B3B85-CED3-42C5-B011-50A11CFB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0380E1-2BD4-41AC-9DB5-57A741AF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5905B-3C9B-4D8C-9D84-0462DC69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7D94-5168-4F19-A5C6-B6184A5A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6E09E1-CF5D-4F66-8889-31258E13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6A70A1-5188-43AB-A622-5252B6E1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4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4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D900B3-CDD7-4CF8-AAA5-8CB79C53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148D-C061-4BF5-B8DC-6E76EC90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AD80-42D8-4711-A447-FFDDCC09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F6BA-E214-477A-9EAE-0F4368AF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0957-2252-4985-B4CA-793E5787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F004-B9B8-4344-AB86-3D6920D4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C2C3-425A-45AB-84A5-0CC7ED95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65F5-37FE-4969-85E4-C61F157E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287EC-5432-4163-B2EB-BB7626AA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1866-1654-40EF-B373-B6906F24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F4D3-6032-4A35-A8BA-8D344E3F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3D064-E948-41CF-B613-0E101DFD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BEB2C-8C0F-40CC-B089-5AEFE220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177B2-F476-4D4E-958D-582A1D13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35D4-F45B-48DD-92E1-A0CC784B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9DE12-495F-4EE7-98F9-46B2747F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B50A-3340-4DE6-A4AE-D04BAB0E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9FA3-1938-4906-AB8E-46B129B9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8CBB2-CE9B-4AE9-A61D-CC8940AA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EFB35-9FC7-4EB4-92A9-8D087F4E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92511-6B86-4D58-8762-E11241CB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2B75-3657-4881-B833-36C18919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71320-14D1-4E92-8BC7-CB37AD75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49FC-FD23-4921-B9BA-DDA13BF2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DEBEA-3C6D-4D5A-8644-BFB349E0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FD772-7A15-4037-BF22-94EA9941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ED5DD-B380-4CFE-B9EF-CFD0B8C4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00D79-E9DC-4876-A7CE-F5560424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A7D1-AE6E-40F3-8DBA-1BA96840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4243C-EC84-44D9-9083-A76B651F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96204-D80F-45EC-9B9A-400AD309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7A114-790F-4C4A-BC12-2BD3C5DC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CB0BE-356A-4DA4-BA9E-D843F98A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D79A2-851A-4E89-B1FA-DA19D164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889DA-3926-4B09-938A-C7DE22FA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B00CB-D45C-431C-A29E-3DFD50DA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0AAED-624E-4114-8598-59F9027A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DCE41-3E24-46A6-A033-2B8D4C48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55A4F-329F-4347-8F0E-FD742CAE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8D7F7-F6ED-4BB1-A92D-D73041AA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7447B-6BAE-4DD4-8905-AFCA454A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B69A6-73BA-4FD0-9854-DAC2F607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EC83D-620E-4D26-A94B-AD121FA6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94DBF-2251-4914-A812-C1C18CF9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2A0E1-AFB7-4408-8FE8-1F96AF76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D212-78D9-4040-A1CA-02C2F07B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4E580-AD2D-4216-8663-945CB2EE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5CDA8-CD14-4104-914D-E98CD4A9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08FAD-5E60-45D1-8E85-3C9164B3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5F10F-4EDC-4FA2-8C22-56D906EF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A502D-BB12-4D77-8A41-B0614811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CD63E-5269-49FE-A7F0-74BFE0AF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BC544-6F26-4C68-B4A2-6F9138CC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4C8FE-5EE7-420E-8462-8C5B0278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95914-61A0-4CC7-80ED-320C01F1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330C4-8A67-4F42-9BF0-E1829732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1F8C2-2914-4930-B9A1-FD4C389D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EAAE3-80D5-49B8-A712-A83ACA8F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100AA-72CB-46CD-8B5A-8E037632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F03C4-4E91-4235-8F78-6BF7BFB1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DED25-ED73-4930-9E7B-76234BA4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31C27-0F17-4155-921C-55C8A9A8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A9ED2-95B6-4AE4-AADF-F6FCF7CF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C30CA-9CC9-4AC8-B4A0-59ED3D48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6DE52-46C9-48D2-B22E-723F4851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246A8-5D46-4012-865F-4C9B917A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AD44D-ADA6-4357-BFF9-55818050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6A9F-982B-4B81-AA08-22DADC7D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E6254-005D-47B9-ADC3-42C06BAF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0954D-883D-4009-A771-0C20938E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3E3F2-3E51-41C2-BEEF-4F008A74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32CD5-2D1D-409D-96B5-BF7AC931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84AAD-77DE-478B-8F1C-53D9ADE0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90CBA-C6D3-456B-BADD-2693BEF7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27955-7C22-44A7-8B41-0F845D10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31044-FA34-4F8C-A13A-2E3D1578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10438-137C-41E2-95F0-6B01748E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41CF4-B8D0-44A8-A4E6-820EDE85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DC36-1D8E-4D62-A8BA-08569728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1891C-EB3F-43D2-A476-75091D86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9D251-5490-4588-A0BE-9DF25DB8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79268-4598-4AF3-BC4D-00F75F45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C5F68-E5CE-42B7-B64B-15A9A6F4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EA2E2-B189-421E-91DC-5875CC1D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64B53-2E16-4107-9DEE-4CE2FE3B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A2D10-4B18-4493-B9C6-87FCFD09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A9566-2C52-438D-AA18-25D6A86C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FA089-9627-4EC5-816B-912B8F26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FB862-6F1C-48EC-8286-DBCE040D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9637-AF1F-4A2A-BFC6-38BA282DA353}" type="slidenum">
              <a:rPr b="0" lang="en-US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3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83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86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894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D4BE-E817-48E0-B154-038A1D9D54DD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3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4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94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96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6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D3DB-81BB-4C0B-8B7D-0D257DAB5F1D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04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04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06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09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CDC1-10CB-4298-9FDA-BB21C1211891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4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14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14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16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200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2433-786D-48BB-B1C1-F1C58B288AE5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4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4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4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27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302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2659-106A-4471-B7C0-51D7AC86CD31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4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34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34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37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404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3DC9-D15A-438D-ABDB-06BA5EDFBD63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4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45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45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47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506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F633-0FE4-4A0D-9681-090939B7FC5C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8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59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60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83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15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4C21-D085-4CE2-AA18-69D2EEFF7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0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1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62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85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17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07B7-83B6-4002-9911-EF8350190779}" type="slidenum">
              <a:rPr b="0" lang="en-US" sz="14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63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4D4C-68D2-4BC3-A6A2-77575E19149F}" type="slidenum">
              <a:rPr b="0" lang="en-US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9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20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849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322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375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380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2B0A-A49B-48A2-A1AE-8CA3BFB8B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5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26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849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28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9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481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486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DB30-99D2-4D0D-8DF9-E3AB7415F42E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3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53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53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55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F7D7-5A06-412A-8FE5-E1540859B417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3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3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63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5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690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A135-1C66-44F5-AD79-A6D4020DCF3A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3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73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73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76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49a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92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d258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25814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f2b2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2b2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7836-E435-4895-9112-D9A363BDDD3E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cc"/>
                </a:solidFill>
                <a:latin typeface="Arial"/>
              </a:rPr>
              <a:t>Me llamo ____________      Clase 802</a:t>
            </a:r>
            <a:br>
              <a:rPr sz="3200"/>
            </a:br>
            <a:r>
              <a:rPr b="0" lang="en-US" sz="3200" spc="-1" strike="noStrike">
                <a:solidFill>
                  <a:srgbClr val="6699cc"/>
                </a:solidFill>
                <a:latin typeface="Arial"/>
              </a:rPr>
              <a:t>La fecha es el 2 de junio del 2017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Propósito # 87:</a:t>
            </a:r>
            <a:r>
              <a:rPr b="0" lang="es-ES_tradnl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practicamos los verbos Saber y Conocer para el QUIZ 4/5: CAP. 9 del MARTES?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7030a0"/>
                </a:solidFill>
                <a:latin typeface="Arial"/>
              </a:rPr>
              <a:t>L.O: to review the differences between SABER &amp; CONOCER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Actividad Inicial:</a:t>
            </a:r>
            <a:r>
              <a:rPr b="0" lang="es-ES_tradnl" sz="2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y completa con </a:t>
            </a:r>
            <a:r>
              <a:rPr b="1" lang="es-ES_tradnl" sz="2400" spc="-1" strike="noStrike">
                <a:solidFill>
                  <a:srgbClr val="00cc00"/>
                </a:solidFill>
                <a:latin typeface="Arial"/>
              </a:rPr>
              <a:t>Sab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Conoc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rma _________ mucho del arte.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__________ a Norma, ella es mi amiga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sotros ___________el arte de Picasso y queremos ir a un museo a ver sus pinturas.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_________ tú como ir al museo de arte?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no____ como ir, pero ¿__________ tú a Belinda y Ernesto?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los si  __________ como ir al museo al museo de arte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Text Box 2"/>
          <p:cNvSpPr/>
          <p:nvPr/>
        </p:nvSpPr>
        <p:spPr>
          <a:xfrm>
            <a:off x="703800" y="425520"/>
            <a:ext cx="59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Arial"/>
              </a:rPr>
              <a:t>¿Cómo se dice en españ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5"/>
          <p:cNvSpPr/>
          <p:nvPr/>
        </p:nvSpPr>
        <p:spPr>
          <a:xfrm>
            <a:off x="555480" y="1447920"/>
            <a:ext cx="759780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Arial"/>
              </a:rPr>
              <a:t>I know how to play c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Arial"/>
              </a:rPr>
              <a:t>Paco knows the Fernandez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Arial"/>
              </a:rPr>
              <a:t>Marta knows the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Arial"/>
              </a:rPr>
              <a:t>Martina knows the city very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Arial"/>
              </a:rPr>
              <a:t>My friends know how to ride a b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70c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Arial"/>
              </a:rPr>
              <a:t>Luisa knows th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1" name="Picture 7" descr="j0079190"/>
          <p:cNvPicPr/>
          <p:nvPr/>
        </p:nvPicPr>
        <p:blipFill>
          <a:blip r:embed="rId1"/>
          <a:stretch/>
        </p:blipFill>
        <p:spPr>
          <a:xfrm>
            <a:off x="7086600" y="304920"/>
            <a:ext cx="1711440" cy="306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ractica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I-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Spot the word that is NOT a form of saber or conocer: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A. sabes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B. conozc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. 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dconocemos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564" name="Text Box 4"/>
          <p:cNvSpPr/>
          <p:nvPr/>
        </p:nvSpPr>
        <p:spPr>
          <a:xfrm>
            <a:off x="990720" y="4038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6"/>
          <p:cNvSpPr/>
          <p:nvPr/>
        </p:nvSpPr>
        <p:spPr>
          <a:xfrm>
            <a:off x="1523880" y="3048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  <a:ea typeface="Arial"/>
              </a:rPr>
              <a:t>sa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3"/>
          <p:cNvSpPr/>
          <p:nvPr/>
        </p:nvSpPr>
        <p:spPr>
          <a:xfrm>
            <a:off x="457200" y="4114800"/>
            <a:ext cx="8763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  <a:ea typeface="Arial"/>
              </a:rPr>
              <a:t>II-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  <a:ea typeface="Arial"/>
              </a:rPr>
              <a:t>How do you say “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  <a:ea typeface="Arial"/>
              </a:rPr>
              <a:t>I know Spanish.”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  <a:ea typeface="Arial"/>
              </a:rPr>
              <a:t>? (include pronoun)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 txBox="1"/>
          <p:nvPr/>
        </p:nvSpPr>
        <p:spPr>
          <a:xfrm>
            <a:off x="380520" y="7632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III-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What is a good way to remember when to use 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SABER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A. used for knowing places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B. used for knowing people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. used for things that can be learned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D.used for knowing languages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IV-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How do you say “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I know her well”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A. La conozco bien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B. La sé bien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V-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How do you say “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we know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0070c0"/>
                </a:solidFill>
                <a:latin typeface="Tahoma"/>
              </a:rPr>
              <a:t>Laura”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when you are talking about being familiar with her?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8" name="Picture 5" descr="C:\Documents and Settings\Meli\Local Settings\Temporary Internet Files\Content.IE5\EAOZIRK7\MCj04326170000[1].png"/>
          <p:cNvPicPr/>
          <p:nvPr/>
        </p:nvPicPr>
        <p:blipFill>
          <a:blip r:embed="rId1"/>
          <a:srcRect l="0" t="0" r="16677" b="0"/>
          <a:stretch/>
        </p:blipFill>
        <p:spPr>
          <a:xfrm>
            <a:off x="7620120" y="5029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9360">
            <a:solidFill>
              <a:srgbClr val="d0c96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Práctica:</a:t>
            </a:r>
            <a:endParaRPr b="0" lang="en-US" sz="48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2f2b20"/>
                </a:solidFill>
                <a:latin typeface="Tahoma"/>
              </a:rPr>
              <a:t>Copia y completa con Saber o conocer.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2b20"/>
                </a:solidFill>
                <a:latin typeface="Tahoma"/>
              </a:rPr>
              <a:t>Yo ____________a Nia. Somos muy amigas.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2b20"/>
                </a:solidFill>
                <a:latin typeface="Tahoma"/>
              </a:rPr>
              <a:t>Busco mi cuaderno. ¿_________ usted dónde está?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2b20"/>
                </a:solidFill>
                <a:latin typeface="Tahoma"/>
              </a:rPr>
              <a:t>Tengo que llamar a Julia. ¿__________ (tú) su número de teléfono?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2b20"/>
                </a:solidFill>
                <a:latin typeface="Tahoma"/>
              </a:rPr>
              <a:t>Luis es inteligente. ____________hablar español.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2b20"/>
                </a:solidFill>
                <a:latin typeface="Tahoma"/>
              </a:rPr>
              <a:t>¿Quieren hablar bien el español? Es necesario ___________ los verbos irregulares.</a:t>
            </a:r>
            <a:br>
              <a:rPr sz="3200"/>
            </a:br>
            <a:r>
              <a:rPr b="0" lang="es-ES_tradnl" sz="3200" spc="-1" strike="noStrike">
                <a:solidFill>
                  <a:srgbClr val="2f2b2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ráctica :</a:t>
            </a:r>
            <a:br>
              <a:rPr sz="4400"/>
            </a:br>
            <a:r>
              <a:rPr b="0" i="1" lang="en-US" sz="2800" spc="-1" strike="noStrike">
                <a:solidFill>
                  <a:srgbClr val="2f2b20"/>
                </a:solidFill>
                <a:latin typeface="Tahoma"/>
              </a:rPr>
              <a:t>¿Saber o conocer?</a:t>
            </a:r>
            <a:br>
              <a:rPr sz="2800"/>
            </a:b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Fill in the blanks with the correct form of “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saber</a:t>
            </a: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” or “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conocer</a:t>
            </a: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.”  Include the “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 personal” if needed.</a:t>
            </a:r>
            <a:endParaRPr b="0" lang="en-US" sz="28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838080" y="22096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Yo ____________ nadar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Nusrat no ____________ Gustavo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Leslie y yo ____________ que es miércoles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Tú ______________ dónde está la oficina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Yo ____________ la ciudad de San Juan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Antonio y Kleber ___________ hablar español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Nosotros ___________ Queens muy bien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marL="582480" indent="-514080">
              <a:lnSpc>
                <a:spcPct val="90000"/>
              </a:lnSpc>
              <a:spcBef>
                <a:spcPts val="700"/>
              </a:spcBef>
              <a:buClr>
                <a:srgbClr val="d25814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2b20"/>
                </a:solidFill>
                <a:latin typeface="Tahoma"/>
              </a:rPr>
              <a:t>Michele ____________ la madre de Briana.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rea # 87</a:t>
            </a:r>
            <a:endParaRPr b="0" lang="en-US" sz="4400" spc="-1" strike="noStrike">
              <a:solidFill>
                <a:srgbClr val="675e47"/>
              </a:solidFill>
              <a:latin typeface="Tahoma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Completa la hoja UN REPASO DE SABER Y CONOCER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2b20"/>
                </a:solidFill>
                <a:uFillTx/>
                <a:latin typeface="Tahoma"/>
              </a:rPr>
              <a:t>QUIZ 4/5: CAPITULO 9</a:t>
            </a:r>
            <a:r>
              <a:rPr b="0" lang="en-US" sz="3200" spc="-1" strike="noStrike">
                <a:solidFill>
                  <a:srgbClr val="2f2b20"/>
                </a:solidFill>
                <a:latin typeface="Tahoma"/>
              </a:rPr>
              <a:t> is on TUESDAY</a:t>
            </a:r>
            <a:endParaRPr b="0" lang="en-US" sz="3200" spc="-1" strike="noStrike">
              <a:solidFill>
                <a:srgbClr val="2f2b2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Numeros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Saber/Conocer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f2b2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ahoma"/>
              </a:rPr>
              <a:t>Maps</a:t>
            </a:r>
            <a:endParaRPr b="0" lang="en-US" sz="28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23:18:01Z</dcterms:created>
  <dc:creator>Helen Zumaeta</dc:creator>
  <dc:description/>
  <dc:language>en-US</dc:language>
  <cp:lastModifiedBy>Helen Zumaeta</cp:lastModifiedBy>
  <cp:lastPrinted>2013-04-12T14:58:04Z</cp:lastPrinted>
  <dcterms:modified xsi:type="dcterms:W3CDTF">2017-06-02T20:15:03Z</dcterms:modified>
  <cp:revision>29</cp:revision>
  <dc:subject/>
  <dc:title>Me llamo ____________        Clase 7 IM La fecha es el 17 de noviembre del 2011</dc:title>
</cp:coreProperties>
</file>